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6A9-613B-441D-9414-4D6F74AB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6DA-37A9-4E72-B7DA-A8A5F283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EBD-64DB-4B17-AFAD-44F7B868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D84-9EEF-47B9-9CAE-1AB540B5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511-FF89-4464-B9AB-E59AD7C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9FE-FE04-43E2-945E-5E6088D4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420-9530-4B5F-8769-9617E02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102-A8D1-4759-84F6-7965636C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401-EDB2-4E7F-AEFC-EE4E8887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E2D-7F71-4A60-B4DD-7CC0676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3E1-C56E-46BD-A32F-F032114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B39-AAE6-4295-BD25-FBFA37A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3C6D-86FC-45F9-A3AF-BF52744B54B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平安的七月夜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Peaceful July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47Z</dcterms:created>
  <dc:creator> </dc:creator>
  <dc:description/>
  <dc:language>en-US</dc:language>
  <cp:lastModifiedBy> </cp:lastModifiedBy>
  <dcterms:modified xsi:type="dcterms:W3CDTF">2004-06-16T01:33:00Z</dcterms:modified>
  <cp:revision>1</cp:revision>
  <dc:subject/>
  <dc:title>平安的七月夜 (1/3)  [Peaceful July]</dc:title>
</cp:coreProperties>
</file>